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21A-40DC-418D-9FAF-DDD9AC1C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F68-42AF-4905-90E2-6100AAF1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7E7-FE25-4366-A7A5-0122AF82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98A-ED9E-484D-B43C-0BE67A7D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4436-E190-440B-894A-96ECC83B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437-5EF1-4610-9EDE-2D9486DD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BBE6-E160-4336-B3C1-216CA8DB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F812-1DC6-4A77-9A67-CD885FD3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5C86-E5E4-4523-B842-EDC1965A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660E-8ECB-45D3-AF10-08BF17CB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3E1D-9DBB-4415-871C-A01CA81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174-65E7-4B74-B86E-96BC750A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1401-7BBD-495B-AFE8-0AF865FF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F1F8-4136-4788-8920-02E98EA3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D511-AE62-4AA8-AC2C-94E37DB3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35AD-15B6-4740-B7E1-5D9DE2C7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29AB-B736-47E9-9308-5AD4D14E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8EF-01D7-4FCF-B0D5-6D36D527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5D9-9039-4D4E-BF07-38F7B6C8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7B5-4F94-42AE-9DB3-2401160B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5A1-7DAC-4484-9905-6037B8AF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98F-775C-43FA-AD7C-E2C11EEA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24E-5BDF-46B5-BFB2-27EBE00B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F1E-E1AD-4735-A727-6C4F922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C97B-974F-4BC7-B017-5BD559624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D9E8-05BC-4683-B5E7-E4259D001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Questio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l 4 schedules need to be described (initial described briefly / focused in more dep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does each schedule look li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is it carried 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environment are they carried out 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does the schedule tell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rdio-Respiratory 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The ability for the whole body to work continuously for a prolonged perio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ocal muscular 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The ability of muscles to work continuou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. Flexi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The range of movement across a j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5. Streng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The maximum force a muscle or group of muscles can exert in a single eff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6. Pow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combination of power and sp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 we need for hocke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players nee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pee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dio-respiratory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pe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beat all opponents to the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drive past opponents with the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get forwards quickly to help in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get back quickly to help in def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dio-respiratory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last the duration of the g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have the ability to pass, shoot, dribble and tackle throughout the game with good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erent roles (positions) require different fitness demands, for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tacker –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fender - str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roughout your hockey block we will study in detail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rdio-respiratory 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0415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omework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ue da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Monday 7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Dece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Complete question on A4 lined pap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s and weakness of your individual skill should provide the main body of the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swers need to be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pecif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o one skill (the weakness you describe are the parts you developed in train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Question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general – answered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 of a model performer should be given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using them to compare – what will this allow you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Question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ing sentence should include – skill needing improvement, stage of learning, duration and frequency of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has to be a focus – nobody mentioned thi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the practices – no need to describe them unless as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principles of effective practice did you app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Question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nitored using di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-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edbac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eparation of the bo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ypes and aspects of fit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Less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onday 30</a:t>
            </a:r>
            <a:r>
              <a:rPr b="1" lang="en-GB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Nove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erything we do in the preparation of the body course is linked to the cycle of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vestigat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alys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alu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1827360" cy="13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 types of sport specific fitness required for hocke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hysical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ill-related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ntal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r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6 aspect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physical fitn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pe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ability to cover a distance or perform a movement in a short period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7:41:24Z</dcterms:created>
  <dc:creator>Carrie Fleming</dc:creator>
  <dc:description/>
  <dc:language>en-US</dc:language>
  <cp:lastModifiedBy>FlemingC1</cp:lastModifiedBy>
  <dcterms:modified xsi:type="dcterms:W3CDTF">2009-11-30T11:01:43Z</dcterms:modified>
  <cp:revision>4</cp:revision>
  <dc:subject/>
  <dc:title>Preparation of the body</dc:title>
</cp:coreProperties>
</file>